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0D6F-4495-4CEB-92E0-7ACCD649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C95D-E7E5-40FA-83C1-74F57C2C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F6C-49A3-4027-929C-34646EA7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A482-1511-4453-9B04-73ED79A4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7270-35AC-45A6-8D67-7CB3B4BE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F46A-C930-46EA-B1D5-B85896B1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0CCD-2AD0-4814-B48C-DE734DA0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7DD5-43F0-43AD-B189-71AA836C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1899-4132-44C4-B87B-B6C375E9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FF67-2ED2-437C-9E7C-0F236AE3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B092-EFE4-4011-B919-4391F49E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C918-91B1-4442-BC40-9AE0C435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CA0E-2B51-462D-876E-F7AD3E37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DA48-02C9-4B28-A4A5-A6E1F862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DB2A-5D5F-4128-A9CF-930502BB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3F8F-193C-4F88-83B8-AE412B04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F9E7-C9C9-4402-82EA-D7612AD9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4D9-F5C4-4E98-A3C6-B0E004A6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4400-EEE9-491C-8E36-DCD6A37D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59A4-CFD5-4D5D-BDDC-55FD678A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04E0-20BC-4E2E-9361-F5471F6A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8A45-E48B-4FFB-A963-CE0A6074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44C-3C5F-4316-9C87-FDB95855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FDA5-FB2F-47A8-B206-98005E56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384F-22E4-4661-997C-719FF5B486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5264-D3FC-45FA-AE79-655005DB38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9840" y="265752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SKRACANIE UŁAMK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953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ZADA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81280" y="954000"/>
            <a:ext cx="69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la z Anią przyrządzały sałatkę owocową. Jola użyła    pomarańczy, natomiast Ania    . Czy obie dziewczynki użyły takiej samej ilości pomarańczy do swoich sałate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842000" y="1224000"/>
                <a:ext cx="2235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316640" y="954000"/>
                <a:ext cx="243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1" name="Obraz 149" descr=""/>
          <p:cNvPicPr/>
          <p:nvPr/>
        </p:nvPicPr>
        <p:blipFill>
          <a:blip r:embed="rId1"/>
          <a:stretch/>
        </p:blipFill>
        <p:spPr>
          <a:xfrm>
            <a:off x="2592360" y="1898640"/>
            <a:ext cx="4051440" cy="1357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62360" y="32418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5560" y="3249720"/>
            <a:ext cx="31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716280" y="3249720"/>
                <a:ext cx="152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33480" y="4059360"/>
            <a:ext cx="1247760" cy="1284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677000" y="4059360"/>
            <a:ext cx="1225800" cy="1261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50920" y="3736800"/>
            <a:ext cx="77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zedstawmy użyte ilości pomarańczy przez dziewczynki za pomocą figu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57360" y="4238640"/>
            <a:ext cx="67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 figurach zostały zamalowane w takich samych częścia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457360" y="4745160"/>
            <a:ext cx="4861080" cy="393480"/>
            <a:chOff x="2457360" y="4745160"/>
            <a:chExt cx="4861080" cy="39348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7075440" y="4745160"/>
                  <a:ext cx="1526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2457360" y="4745160"/>
              <a:ext cx="486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usimy doprowadzić ułamek    do postac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5770440" y="4745160"/>
                  <a:ext cx="1526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699160" y="3203640"/>
                <a:ext cx="152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27000" y="554364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żemy zatem napis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400560" y="5408640"/>
                <a:ext cx="1485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202360" y="5454720"/>
            <a:ext cx="35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konaliśmy czynność zwaną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kracaniem ułam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67000" y="6264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Wnios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366640" y="5094360"/>
            <a:ext cx="2384280" cy="495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953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36640" y="1494000"/>
            <a:ext cx="6166080" cy="4508280"/>
            <a:chOff x="1736640" y="1494000"/>
            <a:chExt cx="6166080" cy="4508280"/>
          </a:xfrm>
        </p:grpSpPr>
        <p:graphicFrame>
          <p:nvGraphicFramePr>
            <p:cNvPr id="123" name=""/>
            <p:cNvGraphicFramePr/>
            <p:nvPr/>
          </p:nvGraphicFramePr>
          <p:xfrm>
            <a:off x="1736640" y="1494000"/>
            <a:ext cx="6166080" cy="450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6640" y="1494000"/>
                      <a:ext cx="6166080" cy="450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2185920" y="2135160"/>
              <a:ext cx="5580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Skracając ułamek należy </a:t>
              </a:r>
              <a:r>
                <a:rPr b="1" lang="en-US" sz="4000" spc="-1" strike="noStrike">
                  <a:solidFill>
                    <a:srgbClr val="3333cc"/>
                  </a:solidFill>
                  <a:latin typeface="Arial"/>
                </a:rPr>
                <a:t>licznik i mianownik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ułamka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podzielić przez tą samą liczb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UŁAMKI NIESKRACAL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0920" y="1359000"/>
            <a:ext cx="805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łamki, których nie można skrócić nazywam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łamkami nieskracalny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050920" y="2965320"/>
                <a:ext cx="5986440" cy="17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701640" y="2349360"/>
            <a:ext cx="31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zykł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17720" y="5273640"/>
            <a:ext cx="585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zy zauważyłeś coś ciekaweg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8T21:15:15Z</dcterms:modified>
  <cp:revision>49</cp:revision>
  <dc:subject/>
  <dc:title>Slajd 1</dc:title>
</cp:coreProperties>
</file>